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497-BC94-45FF-94C9-EA5E9161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3DC-3E61-4C72-BE82-A61757FB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726-A408-476A-9A6E-2823CCA4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F75-DFC1-4F54-BBF5-AA416ACE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379A-E0BD-4828-8AF0-C912EA2B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289D-AE19-464F-B8AD-7EB17AC2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B05-4FFE-4EE1-8615-BB2E7F6B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204-CBE5-4107-B4BF-5C4AD47A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AF8-640B-4BFC-9FE1-3D93BEC6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30C-A138-4146-AE02-2B0746F9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3CD-0EDF-4962-A867-C6B4778B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EB5-44A1-42F6-9EE7-F14CB5B5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DC17-D410-4A12-99EE-E2E43B099D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228600"/>
            <a:ext cx="6095880" cy="6464160"/>
          </a:xfrm>
          <a:prstGeom prst="rect">
            <a:avLst/>
          </a:prstGeom>
          <a:ln w="9360">
            <a:solidFill>
              <a:srgbClr val="0c12d9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657600" y="3733920"/>
            <a:ext cx="1789200" cy="1828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581280" y="990720"/>
            <a:ext cx="167652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urlz MT"/>
              </a:rPr>
              <a:t>We Need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657600" y="5867280"/>
            <a:ext cx="20574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urlz MT"/>
              </a:rPr>
              <a:t>More Spac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00400" y="2057400"/>
            <a:ext cx="2895480" cy="146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V="1">
            <a:off x="3657600" y="3733920"/>
            <a:ext cx="1828800" cy="1828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57600" y="3809880"/>
            <a:ext cx="1828800" cy="1752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3:34:48Z</dcterms:created>
  <dc:creator>PA Department of Education</dc:creator>
  <dc:description/>
  <dc:language>en-US</dc:language>
  <cp:lastModifiedBy>PA Department of Education</cp:lastModifiedBy>
  <dcterms:modified xsi:type="dcterms:W3CDTF">2009-02-04T13:43:37Z</dcterms:modified>
  <cp:revision>3</cp:revision>
  <dc:subject/>
  <dc:title>PowerPoint Presentation</dc:title>
</cp:coreProperties>
</file>